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1F3-D3F1-4AC3-AE21-E81E9012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A82-DB6B-4E57-B372-78AB48E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969-9F4B-49E3-A24C-7C957ECB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1C5-B232-409A-A923-14DEE661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90A-A8D0-4872-82AE-542898E1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E271-3FED-4F17-8336-EB93C8F7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DE2-698E-411E-826B-08A483FF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C31-AAD5-40B5-9C8A-90D69311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F9E-A965-465F-873F-2A5BFD8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2F6-B3B6-48D5-96ED-DFA8574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B585-6814-49CA-BE5B-9BB7ADB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C4F-E1A2-49D1-ACAF-48AED1F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F96-D1A2-4F2C-A353-7D5EE52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B07-47AB-444D-9F36-2A15FBE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321F-CC8B-4D34-98B4-958C4688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5F37-78C1-49AA-8F44-992FAD2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757F-3253-493D-8D1D-73E06C6F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B37-D3C5-4B98-B240-B6741566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658-ACD6-4D54-AE10-5CD841E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4F7-E1D6-435D-9BF0-08C7170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7DE-5E9A-4497-8956-D1E9A8AD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763-8023-4587-A68C-EB2046A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D5D-8905-4997-B060-8DEAAA35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A53-C0DC-4236-BDE9-FB3063F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8E1-C959-4A84-B5C0-659E2946931B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019D-C14E-475B-A208-090F1741CE64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34320" y="3808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2280" y="152280"/>
            <a:ext cx="4800600" cy="655344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553440"/>
              <a:gd name="textAreaBottom" fmla="*/ 6319080 h 6553440"/>
            </a:gdLst>
            <a:ahLst/>
            <a:rect l="textAreaLeft" t="textAreaTop" r="textAreaRight" b="textAreaBottom"/>
            <a:pathLst>
              <a:path w="21600" h="29486">
                <a:moveTo>
                  <a:pt x="3600" y="0"/>
                </a:moveTo>
                <a:arcTo wR="3600" hR="3600" stAng="16200000" swAng="-5400000"/>
                <a:lnTo>
                  <a:pt x="0" y="25886"/>
                </a:lnTo>
                <a:arcTo wR="3600" hR="3600" stAng="10800000" swAng="-5400000"/>
                <a:lnTo>
                  <a:pt x="18000" y="29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10080" y="3049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0102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53341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67280" y="16765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280" y="227016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67280" y="286380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867280" y="345924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67280" y="405288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867280" y="46483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152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81480" y="16765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81480" y="22860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81480" y="28954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053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8148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181480" y="4724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814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934320" y="3808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52280" y="152280"/>
            <a:ext cx="4800600" cy="655344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553440"/>
              <a:gd name="textAreaBottom" fmla="*/ 6319080 h 6553440"/>
            </a:gdLst>
            <a:ahLst/>
            <a:rect l="textAreaLeft" t="textAreaTop" r="textAreaRight" b="textAreaBottom"/>
            <a:pathLst>
              <a:path w="21600" h="29486">
                <a:moveTo>
                  <a:pt x="3600" y="0"/>
                </a:moveTo>
                <a:arcTo wR="3600" hR="3600" stAng="16200000" swAng="-5400000"/>
                <a:lnTo>
                  <a:pt x="0" y="25886"/>
                </a:lnTo>
                <a:arcTo wR="3600" hR="3600" stAng="10800000" swAng="-5400000"/>
                <a:lnTo>
                  <a:pt x="18000" y="29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3049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102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3341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867280" y="16765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867280" y="227016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867280" y="286380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867280" y="345924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867280" y="405288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867280" y="46483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05520" y="152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16765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2860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28954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81480" y="35053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8148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4724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49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53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57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61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66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70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74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78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83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87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91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95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2:29:52Z</dcterms:created>
  <dc:creator>Valeria</dc:creator>
  <dc:description/>
  <dc:language>en-US</dc:language>
  <cp:lastModifiedBy>Valeria</cp:lastModifiedBy>
  <dcterms:modified xsi:type="dcterms:W3CDTF">2006-10-01T02:47:20Z</dcterms:modified>
  <cp:revision>7</cp:revision>
  <dc:subject/>
  <dc:title>Slide 1</dc:title>
</cp:coreProperties>
</file>